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58E0-79C6-4EF8-9A0A-540C60D3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3E6F-9E4E-403A-825A-2ADA34AD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D275C-FE06-4D51-8503-5BA6C8F6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5764F-D1F5-43A1-91F0-D5112EC7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A5C1E-6D7E-4C10-8B0F-8C677513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E832F-A301-4A74-BA05-81603736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0AFF5-676B-43F5-A07C-8DCF6674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DDAFD-18A9-4469-9225-FA96199D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C752A-4057-4880-B0C6-D3FF7468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38A0A-AB47-4A50-92FD-AFF2A121E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7A199-61A4-4B34-845A-FE6236C6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EC26A-D709-4FCE-B308-0F4CF4B0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2EC3-C108-4927-B416-211A6B496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E4D06-E71E-473A-8167-C193A672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16F0B-BB1D-44AB-A181-3EE6C4CA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15103-3BA1-40C2-AA35-53D11BEC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A2373-36A4-4E07-8459-2DB992EB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1A1DC-A7F5-4664-A955-D3E38FE8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90D2E-650C-4B24-A160-299CF407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C1095-AF43-4120-AFDF-9F194B72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D17D9-5BD4-4E81-875F-8A3A67E3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23BA9-6177-41D8-9128-68A2DAD1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331F9-1E90-41C3-9FFF-7F9280EC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B19C-3911-4AFB-95F7-8972EB237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46513-63FF-40A7-946E-A6F456160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2B68A-DEF9-4D6A-8E73-E8B7DB47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08966-B8B2-44FD-B459-BE726471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06D60-B669-49C9-A9B2-E53726E5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B3DD6-FE85-44C6-8C3D-24BA2E91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9473F-9336-45BF-9B3C-0636EF05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ECFC1-E68E-4AD1-94FF-ABBB3373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6578C-CEF2-4EF6-B28D-E18E21FA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F64F1-745D-41D0-9247-C019113B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6E499-CD87-4C33-8654-394F34A6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EE60-1465-480D-A4EA-3864D8AB6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F01DF-F302-485E-ACA5-FE2DAC69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4C9D7-BEB2-419E-ABC5-DD66D1AEF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1ABE8-6879-4F80-97DF-4CDC92747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F8759-5881-455D-9662-32C915B2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F96F0-D467-405F-BF77-9CBBD000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DF59B-5DAC-4AC7-855D-1CA18136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446A1D-2A46-4E68-A343-1D8C08B3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8284CC-ED92-438D-86AD-7F0F2B0B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1E04CF-E566-4A45-86CE-2957566B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81E11-7A36-4737-B028-F02FAA5C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9529-27AE-4094-A043-98D4AEEE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D04E3-5F50-4BF4-B2EE-31A02A17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015C51-395B-4F20-BF08-3472FA3C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4A9A4-8C1D-4D70-8A10-1C4EA9A9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5D9E9B-A511-4EAE-A7A1-918650BA0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BED98-5653-4499-B031-23655EF3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3AD555C-2CC9-4BF4-9E72-150ED6E1D00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F1DE8F7-4FE1-4F79-BDB0-DF799B5AF70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968C1E3-E4FC-4BBA-AE62-1BFDDC8594E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5A60FD6-8129-4BF3-9320-84E4305729C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041C4DD-6055-44C2-A071-E355851AC7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6620-8C9B-4671-824A-756EE430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5F625E3-FD2A-476B-8212-575CA5FD408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13A651C-69F5-4BED-802A-33032947E3C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25ADEAB-A2C4-4753-8E65-FB4ED379238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8808552-2394-402F-B3F9-7DE6D0CA2A4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8E90E93-02EB-44A9-AF7C-18C52DE7CD7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106088E-96A8-4F8E-BC28-C2094760487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8CF36FE-CEF0-422E-B79B-AEB78CF5C7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931C-43E5-4EA5-BA9B-69D78CE2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FB8D-4C94-4A3A-9FCC-CDC1968B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8FAD-A600-4E54-B8E9-3E0BE4BA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7C3A-4D49-4435-9D17-9F5BC6D0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611E-00F4-4525-BB11-39591DC0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3415-FC1F-4B2A-9585-B94B0BEF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13FE-B810-4DCF-AC61-C4310CED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DFBD-8027-40B1-93AC-F5353BD0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F59E-7075-442B-858C-1B98CBD6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95C3-AA0F-4AAA-A820-763B4B8BB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2372A-F472-42D0-AFAE-436EC608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5CF1F-2E9C-4B3F-BE46-F2B7B37F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0696F-CA35-4020-BF8E-CA2E6E10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51682-EFE8-4E61-B3C2-C3B4C77C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2749D-0E2C-4658-A205-8B92668B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CD1F-3AB1-40A6-8D5A-B931B546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54439-6E52-4A2F-B54C-45B9D53A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4F951-C6DD-4B55-A474-25BDD49A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A0804-9F17-4CD9-A02F-37B01298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93D2B-9D95-41FA-A5C8-3DBD6B4E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5BC95-565D-4BA3-9F18-F320E054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F53E5-8F32-4700-B86C-9E18E0ADB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F556A-545E-4216-98AD-C21BCBC1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9618E-E82F-475E-A664-C27F3080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931DE-6A7E-403C-B4B9-8984C84E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FAD80-3444-4CE4-BD07-EE2B88BD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49BA-0CE4-403F-BEC9-B0665EEC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702AD-A8B5-4383-BDA0-8C92A736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67E10-046C-43D5-BFF7-C01BD26F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71396-CBE3-45FF-A6C1-9897886A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DBA96-6AF2-4CC1-A618-5BCAB770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1BABB-DB25-4472-8739-04E64E66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FE38D-C2C1-4BCD-AB85-AFA1EF37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B41B3-8093-4418-B4F1-C9927F7D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77E37-AEF2-4C7B-98C0-4C4D66B6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6F1A0-CE0A-46F6-B39D-E9E8CFD21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0DAE9-86A4-4656-916E-42CAD197A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51ED-C751-4E95-86E4-DB04E7DF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70E09-334F-42A0-9081-4479D999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5065A-5EEB-4D68-AB72-26A12C1F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C69E2-50D1-4E56-96D7-A8D409B9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2B354-5610-49B5-82B3-28568B6A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FB98E-6A4F-4F66-854E-B1DA10B4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1C7FA-AE3E-4BED-83AD-79FAB589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0DD31-2263-4EC9-A230-76CF1CD9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E5DB2-D266-46EC-9868-9FD4E36E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B1ECE-74B0-4D9B-8ECD-A517E1FA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807B5-09C1-4FE3-AB32-2B3607C77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B79B-25F0-496D-B97A-699B26E6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3AD77-24CB-4F2B-8B76-5204F72C2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73BAF-91EF-4370-9E49-F3619110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4002B-451A-471A-B4FA-A97DE85B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EDCC6-77CB-4CE0-A109-096FF8E6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894B0-61EA-41D8-B56B-BDCA52AB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CA85C-70DA-4478-B250-C9B6BE40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D3F12-BA97-4B95-9C0F-EDB251DF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CEA6B-4870-4C68-9F0C-93C5A71C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2F371-3CA9-4F32-8DF2-EF452DC1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6DFB9-6EEB-47E9-8E80-FEFC287A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5363-9CF0-4730-8202-D8AD33EC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01689-8DD5-4F02-9D5B-B295B37D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71CDB-84EC-4034-8AC1-591404A5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6BF3D-F48D-4E93-A855-65328412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67C8C-CEF2-4CEF-9D3D-76E4154A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B7B5D-149E-4BE5-8C43-7F41CDB0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EA02C-1F55-4D08-B6C7-EF0CA0AF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409BD-8E19-412B-A6C6-71845147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B469A-7D4A-4818-96D8-1C80244F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3912B-DD45-40A6-A08B-4D8710F7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499E2-C9B1-4B48-B6E3-78FE49DF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4855-8C5B-4913-AB30-97EBC689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818E5-D834-4B63-ADBE-C36E7028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C8EF2-B1F6-4CC1-956C-A7758765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BBC71-B26B-4C00-86C5-2CF88448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7469E-71B6-41B5-9E6D-49EFB758A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4B884-FD13-4333-8F6C-0385E09A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40C54-AE03-45A9-84AD-B1DDC33EB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B32E7-3E70-4D32-9631-408C33B8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28387-7F0F-43A4-97E5-AF582C73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ADA52-12BA-4B15-AB0A-5E1E56AF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E9689-FA7C-4BE0-B0E5-1A828CEE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3EEB-71F9-4FEF-86CA-CA9F37D7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4D612-6BAC-4B48-B85C-0B661C84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22112-2B12-4498-BB06-5726D7AE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2288D-0256-42B7-BB6F-5A0DC4CF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882F4-3E6C-450A-A1E6-C2700783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8D4DF-6F96-44D8-B9F0-343AA0DB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80EF8-EDA6-4AF1-AA8A-7930A32A2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A0AFF-2812-48FD-956F-EC7CE79D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D6C9C-E858-433F-93DD-E6C9FA8F6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1E326-F84D-4C1D-8063-CFADFF95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E1F16-2E71-4B3F-8002-132467D8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/>
            <a:ahLst/>
            <a:rect l="l" t="t" r="r" b="b"/>
            <a:pathLst>
              <a:path w="1638887" h="1229165">
                <a:moveTo>
                  <a:pt x="1638887" y="614583"/>
                </a:moveTo>
                <a:cubicBezTo>
                  <a:pt x="1638887" y="808092"/>
                  <a:pt x="1517370" y="990299"/>
                  <a:pt x="1310915" y="1106359"/>
                </a:cubicBezTo>
                <a:cubicBezTo>
                  <a:pt x="1169004" y="1186135"/>
                  <a:pt x="996414" y="1229228"/>
                  <a:pt x="819064" y="1229166"/>
                </a:cubicBezTo>
                <a:cubicBezTo>
                  <a:pt x="819191" y="1024305"/>
                  <a:pt x="819317" y="819444"/>
                  <a:pt x="819444" y="614583"/>
                </a:cubicBezTo>
                <a:lnTo>
                  <a:pt x="1638887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219240" y="719280"/>
            <a:ext cx="1060200" cy="993600"/>
            <a:chOff x="219240" y="719280"/>
            <a:chExt cx="1060200" cy="9936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9240" y="719280"/>
              <a:ext cx="10602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D15F-2B1F-4B81-BB49-5E04517C6D9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Прямоугольник 12"/>
          <p:cNvGrpSpPr/>
          <p:nvPr/>
        </p:nvGrpSpPr>
        <p:grpSpPr>
          <a:xfrm>
            <a:off x="652320" y="706320"/>
            <a:ext cx="4797720" cy="3657600"/>
            <a:chOff x="652320" y="706320"/>
            <a:chExt cx="4797720" cy="3657600"/>
          </a:xfrm>
        </p:grpSpPr>
        <p:pic>
          <p:nvPicPr>
            <p:cNvPr id="417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706320"/>
              <a:ext cx="479772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800280"/>
              <a:ext cx="4572000" cy="34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Блок-схема: процесс 13"/>
          <p:cNvSpPr/>
          <p:nvPr/>
        </p:nvSpPr>
        <p:spPr>
          <a:xfrm rot="19468200">
            <a:off x="396720" y="716040"/>
            <a:ext cx="685800" cy="1522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Блок-схема: процесс 15"/>
          <p:cNvSpPr/>
          <p:nvPr/>
        </p:nvSpPr>
        <p:spPr>
          <a:xfrm flipH="1" rot="2103600">
            <a:off x="5003280" y="703080"/>
            <a:ext cx="649440" cy="1522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AFD6-C374-4F1F-8CE6-37585884668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/>
            <a:ahLst/>
            <a:rect l="l" t="t" r="r" b="b"/>
            <a:pathLst>
              <a:path w="1638887" h="1229165">
                <a:moveTo>
                  <a:pt x="1638887" y="614583"/>
                </a:moveTo>
                <a:cubicBezTo>
                  <a:pt x="1638887" y="808092"/>
                  <a:pt x="1517370" y="990299"/>
                  <a:pt x="1310915" y="1106359"/>
                </a:cubicBezTo>
                <a:cubicBezTo>
                  <a:pt x="1169004" y="1186135"/>
                  <a:pt x="996414" y="1229228"/>
                  <a:pt x="819064" y="1229166"/>
                </a:cubicBezTo>
                <a:cubicBezTo>
                  <a:pt x="819191" y="1024305"/>
                  <a:pt x="819317" y="819444"/>
                  <a:pt x="819444" y="614583"/>
                </a:cubicBezTo>
                <a:lnTo>
                  <a:pt x="1638887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Кольцо 10"/>
          <p:cNvGrpSpPr/>
          <p:nvPr/>
        </p:nvGrpSpPr>
        <p:grpSpPr>
          <a:xfrm>
            <a:off x="219240" y="719280"/>
            <a:ext cx="1060200" cy="993600"/>
            <a:chOff x="219240" y="719280"/>
            <a:chExt cx="1060200" cy="993600"/>
          </a:xfrm>
        </p:grpSpPr>
        <p:pic>
          <p:nvPicPr>
            <p:cNvPr id="465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9240" y="719280"/>
              <a:ext cx="10602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E374-C27E-4D98-A549-8D93E143698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/>
            <a:ahLst/>
            <a:rect l="l" t="t" r="r" b="b"/>
            <a:pathLst>
              <a:path w="1638887" h="1229165">
                <a:moveTo>
                  <a:pt x="1638887" y="614583"/>
                </a:moveTo>
                <a:cubicBezTo>
                  <a:pt x="1638887" y="808092"/>
                  <a:pt x="1517370" y="990299"/>
                  <a:pt x="1310915" y="1106359"/>
                </a:cubicBezTo>
                <a:cubicBezTo>
                  <a:pt x="1169004" y="1186135"/>
                  <a:pt x="996414" y="1229228"/>
                  <a:pt x="819064" y="1229166"/>
                </a:cubicBezTo>
                <a:cubicBezTo>
                  <a:pt x="819191" y="1024305"/>
                  <a:pt x="819317" y="819444"/>
                  <a:pt x="819444" y="614583"/>
                </a:cubicBezTo>
                <a:lnTo>
                  <a:pt x="1638887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Кольцо 10"/>
          <p:cNvGrpSpPr/>
          <p:nvPr/>
        </p:nvGrpSpPr>
        <p:grpSpPr>
          <a:xfrm>
            <a:off x="219240" y="719280"/>
            <a:ext cx="1060200" cy="993600"/>
            <a:chOff x="219240" y="719280"/>
            <a:chExt cx="1060200" cy="993600"/>
          </a:xfrm>
        </p:grpSpPr>
        <p:pic>
          <p:nvPicPr>
            <p:cNvPr id="51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9240" y="719280"/>
              <a:ext cx="10602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84DA-3DF6-4AA9-871B-2EEA8339BFB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/>
            <a:ahLst/>
            <a:rect l="l" t="t" r="r" b="b"/>
            <a:pathLst>
              <a:path w="1638887" h="1229165">
                <a:moveTo>
                  <a:pt x="1638887" y="614583"/>
                </a:moveTo>
                <a:cubicBezTo>
                  <a:pt x="1638887" y="808092"/>
                  <a:pt x="1517370" y="990299"/>
                  <a:pt x="1310915" y="1106359"/>
                </a:cubicBezTo>
                <a:cubicBezTo>
                  <a:pt x="1169004" y="1186135"/>
                  <a:pt x="996414" y="1229228"/>
                  <a:pt x="819064" y="1229166"/>
                </a:cubicBezTo>
                <a:cubicBezTo>
                  <a:pt x="819191" y="1024305"/>
                  <a:pt x="819317" y="819444"/>
                  <a:pt x="819444" y="614583"/>
                </a:cubicBezTo>
                <a:lnTo>
                  <a:pt x="1638887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Кольцо 10"/>
          <p:cNvGrpSpPr/>
          <p:nvPr/>
        </p:nvGrpSpPr>
        <p:grpSpPr>
          <a:xfrm>
            <a:off x="219240" y="719280"/>
            <a:ext cx="1060200" cy="993600"/>
            <a:chOff x="219240" y="719280"/>
            <a:chExt cx="1060200" cy="993600"/>
          </a:xfrm>
        </p:grpSpPr>
        <p:pic>
          <p:nvPicPr>
            <p:cNvPr id="56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9240" y="719280"/>
              <a:ext cx="10602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7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AE8C-769D-4C73-82E8-D94A22C91CA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/>
            <a:ahLst/>
            <a:rect l="l" t="t" r="r" b="b"/>
            <a:pathLst>
              <a:path w="1638887" h="1229165">
                <a:moveTo>
                  <a:pt x="1638887" y="614583"/>
                </a:moveTo>
                <a:cubicBezTo>
                  <a:pt x="1638887" y="808092"/>
                  <a:pt x="1517370" y="990299"/>
                  <a:pt x="1310915" y="1106359"/>
                </a:cubicBezTo>
                <a:cubicBezTo>
                  <a:pt x="1169004" y="1186135"/>
                  <a:pt x="996414" y="1229228"/>
                  <a:pt x="819064" y="1229166"/>
                </a:cubicBezTo>
                <a:cubicBezTo>
                  <a:pt x="819191" y="1024305"/>
                  <a:pt x="819317" y="819444"/>
                  <a:pt x="819444" y="614583"/>
                </a:cubicBezTo>
                <a:lnTo>
                  <a:pt x="1638887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219240" y="719280"/>
            <a:ext cx="1060200" cy="993600"/>
            <a:chOff x="219240" y="719280"/>
            <a:chExt cx="1060200" cy="9936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9240" y="719280"/>
              <a:ext cx="10602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060560"/>
            <a:ext cx="218880" cy="164880"/>
            <a:chOff x="920880" y="1060560"/>
            <a:chExt cx="218880" cy="16488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060560"/>
              <a:ext cx="218880" cy="16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082520"/>
              <a:ext cx="149040" cy="1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008000"/>
            <a:ext cx="63360" cy="4932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2C20-6773-4DD5-AA0E-CBF50567BCB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/>
            <a:ahLst/>
            <a:rect l="l" t="t" r="r" b="b"/>
            <a:pathLst>
              <a:path w="1638887" h="1229165">
                <a:moveTo>
                  <a:pt x="1638887" y="614583"/>
                </a:moveTo>
                <a:cubicBezTo>
                  <a:pt x="1638887" y="808092"/>
                  <a:pt x="1517370" y="990299"/>
                  <a:pt x="1310915" y="1106359"/>
                </a:cubicBezTo>
                <a:cubicBezTo>
                  <a:pt x="1169004" y="1186135"/>
                  <a:pt x="996414" y="1229228"/>
                  <a:pt x="819064" y="1229166"/>
                </a:cubicBezTo>
                <a:cubicBezTo>
                  <a:pt x="819191" y="1024305"/>
                  <a:pt x="819317" y="819444"/>
                  <a:pt x="819444" y="614583"/>
                </a:cubicBezTo>
                <a:lnTo>
                  <a:pt x="1638887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219240" y="719280"/>
            <a:ext cx="1060200" cy="993600"/>
            <a:chOff x="219240" y="719280"/>
            <a:chExt cx="1060200" cy="993600"/>
          </a:xfrm>
        </p:grpSpPr>
        <p:pic>
          <p:nvPicPr>
            <p:cNvPr id="10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9240" y="719280"/>
              <a:ext cx="10602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181D-A681-4E33-91BA-4BAB7485066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2"/>
          <p:cNvSpPr/>
          <p:nvPr/>
        </p:nvSpPr>
        <p:spPr>
          <a:xfrm>
            <a:off x="2282760" y="0"/>
            <a:ext cx="685800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3"/>
          <p:cNvSpPr/>
          <p:nvPr/>
        </p:nvSpPr>
        <p:spPr>
          <a:xfrm>
            <a:off x="2286000" y="0"/>
            <a:ext cx="76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Овал 15"/>
          <p:cNvGrpSpPr/>
          <p:nvPr/>
        </p:nvGrpSpPr>
        <p:grpSpPr>
          <a:xfrm>
            <a:off x="2170080" y="2109960"/>
            <a:ext cx="219240" cy="163440"/>
            <a:chOff x="2170080" y="2109960"/>
            <a:chExt cx="219240" cy="163440"/>
          </a:xfrm>
        </p:grpSpPr>
        <p:pic>
          <p:nvPicPr>
            <p:cNvPr id="151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109960"/>
              <a:ext cx="219240" cy="1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133720"/>
              <a:ext cx="14760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Овал 16"/>
          <p:cNvSpPr/>
          <p:nvPr/>
        </p:nvSpPr>
        <p:spPr>
          <a:xfrm>
            <a:off x="2408400" y="2058840"/>
            <a:ext cx="63360" cy="4932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B95A-B587-456D-AC9E-0F809D7478D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/>
            <a:ahLst/>
            <a:rect l="l" t="t" r="r" b="b"/>
            <a:pathLst>
              <a:path w="1638887" h="1229165">
                <a:moveTo>
                  <a:pt x="1638887" y="614583"/>
                </a:moveTo>
                <a:cubicBezTo>
                  <a:pt x="1638887" y="808092"/>
                  <a:pt x="1517370" y="990299"/>
                  <a:pt x="1310915" y="1106359"/>
                </a:cubicBezTo>
                <a:cubicBezTo>
                  <a:pt x="1169004" y="1186135"/>
                  <a:pt x="996414" y="1229228"/>
                  <a:pt x="819064" y="1229166"/>
                </a:cubicBezTo>
                <a:cubicBezTo>
                  <a:pt x="819191" y="1024305"/>
                  <a:pt x="819317" y="819444"/>
                  <a:pt x="819444" y="614583"/>
                </a:cubicBezTo>
                <a:lnTo>
                  <a:pt x="1638887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Кольцо 10"/>
          <p:cNvGrpSpPr/>
          <p:nvPr/>
        </p:nvGrpSpPr>
        <p:grpSpPr>
          <a:xfrm>
            <a:off x="219240" y="719280"/>
            <a:ext cx="1060200" cy="993600"/>
            <a:chOff x="219240" y="719280"/>
            <a:chExt cx="1060200" cy="993600"/>
          </a:xfrm>
        </p:grpSpPr>
        <p:pic>
          <p:nvPicPr>
            <p:cNvPr id="198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9240" y="719280"/>
              <a:ext cx="10602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9893-B1D7-47CF-A1D5-B21B470FD4B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BD13-7E92-4704-9565-4C20E5613D5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/>
            <a:ahLst/>
            <a:rect l="l" t="t" r="r" b="b"/>
            <a:pathLst>
              <a:path w="1638887" h="1229165">
                <a:moveTo>
                  <a:pt x="1638887" y="614583"/>
                </a:moveTo>
                <a:cubicBezTo>
                  <a:pt x="1638887" y="808092"/>
                  <a:pt x="1517370" y="990299"/>
                  <a:pt x="1310915" y="1106359"/>
                </a:cubicBezTo>
                <a:cubicBezTo>
                  <a:pt x="1169004" y="1186135"/>
                  <a:pt x="996414" y="1229228"/>
                  <a:pt x="819064" y="1229166"/>
                </a:cubicBezTo>
                <a:cubicBezTo>
                  <a:pt x="819191" y="1024305"/>
                  <a:pt x="819317" y="819444"/>
                  <a:pt x="819444" y="614583"/>
                </a:cubicBezTo>
                <a:lnTo>
                  <a:pt x="1638887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Кольцо 10"/>
          <p:cNvGrpSpPr/>
          <p:nvPr/>
        </p:nvGrpSpPr>
        <p:grpSpPr>
          <a:xfrm>
            <a:off x="219240" y="719280"/>
            <a:ext cx="1060200" cy="993600"/>
            <a:chOff x="219240" y="719280"/>
            <a:chExt cx="1060200" cy="993600"/>
          </a:xfrm>
        </p:grpSpPr>
        <p:pic>
          <p:nvPicPr>
            <p:cNvPr id="28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9240" y="719280"/>
              <a:ext cx="10602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3A0D-5573-432F-8368-B0F10241485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12"/>
          <p:cNvSpPr/>
          <p:nvPr/>
        </p:nvSpPr>
        <p:spPr>
          <a:xfrm>
            <a:off x="1014480" y="0"/>
            <a:ext cx="81295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13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3A34-2F63-4E65-A42E-FEB002A6E9E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12F6-C302-43CD-AD52-F20603CF4D7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s://doc.fipi.ru/navigator-podgotovki/navigator-ege/MR_rus_yaz_ege_2024.pdf" TargetMode="External"/><Relationship Id="rId3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Прямоугольник 1" descr=""/>
          <p:cNvPicPr/>
          <p:nvPr/>
        </p:nvPicPr>
        <p:blipFill>
          <a:blip r:embed="rId1"/>
          <a:stretch/>
        </p:blipFill>
        <p:spPr>
          <a:xfrm>
            <a:off x="1206360" y="609480"/>
            <a:ext cx="7705800" cy="2640240"/>
          </a:xfrm>
          <a:prstGeom prst="rect">
            <a:avLst/>
          </a:prstGeom>
          <a:ln w="0">
            <a:noFill/>
          </a:ln>
        </p:spPr>
      </p:pic>
      <p:sp>
        <p:nvSpPr>
          <p:cNvPr id="605" name="Прямоугольник 2"/>
          <p:cNvSpPr/>
          <p:nvPr/>
        </p:nvSpPr>
        <p:spPr>
          <a:xfrm>
            <a:off x="1287360" y="3417840"/>
            <a:ext cx="624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Учимся с ребятами видеть части слова  (морфе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Ориентируемся в членах предложения, частях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Google Shape;188;p29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Google Shape;189;p29"/>
          <p:cNvSpPr/>
          <p:nvPr/>
        </p:nvSpPr>
        <p:spPr>
          <a:xfrm>
            <a:off x="0" y="2155680"/>
            <a:ext cx="1050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Google Shape;190;p29"/>
          <p:cNvSpPr/>
          <p:nvPr/>
        </p:nvSpPr>
        <p:spPr>
          <a:xfrm>
            <a:off x="1403280" y="533520"/>
            <a:ext cx="7263000" cy="34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Осложняющие момен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SzPct val="7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наличие в одном варианте КИМ схожих примеров, например: </a:t>
            </a:r>
            <a:r>
              <a:rPr b="0" i="1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Все, кто интересуется историей старинных орденов и медалей, обращает на них внимание при рассмотрении портретов выдающихся деятелей прошлого. – Тот, кто умеет планировать свое время, успевает сделать гораздо больше других людей </a:t>
            </a: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(в обоих предложениях представлена «схожая» связь между подлежащим и сказуемым, однако только в одном, первом, предложении данная связь нарушена, то есть содержит грамматическую ошибку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7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наличие внутри одного примера «конкурирующих» элементов, например: </a:t>
            </a:r>
            <a:r>
              <a:rPr b="1" i="1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По завершении научного исследования будет опубликована статья в журнале «Наука и жизнь».</a:t>
            </a:r>
            <a:r>
              <a:rPr b="0" i="1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и</a:t>
            </a:r>
            <a:r>
              <a:rPr b="0" i="1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ли </a:t>
            </a:r>
            <a:r>
              <a:rPr b="1" i="1" lang="ru-RU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Некоторые итоги исследования древнерусских сельских поселений подведены в сборнике «Археология севернорусской деревни X–XIII веков», недавно выпущенном в издательстве «Науке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Google Shape;196;p30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Google Shape;197;p30"/>
          <p:cNvSpPr/>
          <p:nvPr/>
        </p:nvSpPr>
        <p:spPr>
          <a:xfrm>
            <a:off x="0" y="2432160"/>
            <a:ext cx="1050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Google Shape;198;p30" descr=""/>
          <p:cNvPicPr/>
          <p:nvPr/>
        </p:nvPicPr>
        <p:blipFill>
          <a:blip r:embed="rId1"/>
          <a:stretch/>
        </p:blipFill>
        <p:spPr>
          <a:xfrm>
            <a:off x="1127160" y="139680"/>
            <a:ext cx="754056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Google Shape;212;p32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Google Shape;213;p32"/>
          <p:cNvSpPr/>
          <p:nvPr/>
        </p:nvSpPr>
        <p:spPr>
          <a:xfrm>
            <a:off x="0" y="230832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Google Shape;214;p32" descr=""/>
          <p:cNvPicPr/>
          <p:nvPr/>
        </p:nvPicPr>
        <p:blipFill>
          <a:blip r:embed="rId1"/>
          <a:stretch/>
        </p:blipFill>
        <p:spPr>
          <a:xfrm>
            <a:off x="1378080" y="433440"/>
            <a:ext cx="749772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Google Shape;228;p34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Google Shape;229;p34"/>
          <p:cNvSpPr/>
          <p:nvPr/>
        </p:nvSpPr>
        <p:spPr>
          <a:xfrm>
            <a:off x="0" y="215568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Google Shape;230;p34" descr=""/>
          <p:cNvPicPr/>
          <p:nvPr/>
        </p:nvPicPr>
        <p:blipFill>
          <a:blip r:embed="rId1"/>
          <a:stretch/>
        </p:blipFill>
        <p:spPr>
          <a:xfrm>
            <a:off x="1103400" y="328680"/>
            <a:ext cx="758340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Google Shape;244;p36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Google Shape;245;p36"/>
          <p:cNvSpPr/>
          <p:nvPr/>
        </p:nvSpPr>
        <p:spPr>
          <a:xfrm>
            <a:off x="0" y="228132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Google Shape;246;p36"/>
          <p:cNvSpPr/>
          <p:nvPr/>
        </p:nvSpPr>
        <p:spPr>
          <a:xfrm>
            <a:off x="1447920" y="271440"/>
            <a:ext cx="7518240" cy="43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Обращаем внимание н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91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tserrat"/>
                <a:ea typeface="Montserrat"/>
              </a:rPr>
              <a:t>в выборе гласной в формах прошедшего времени (учащиеся определяли спря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91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tserrat"/>
                <a:ea typeface="Montserrat"/>
              </a:rPr>
              <a:t>в глаголах-исключениях </a:t>
            </a:r>
            <a:r>
              <a:rPr b="0" i="1" lang="en-US" sz="1200" spc="-1" strike="noStrike">
                <a:solidFill>
                  <a:srgbClr val="000000"/>
                </a:solidFill>
                <a:latin typeface="Montserrat"/>
                <a:ea typeface="Montserrat"/>
              </a:rPr>
              <a:t>(стелить, ненавидеть, гнать)</a:t>
            </a:r>
            <a:r>
              <a:rPr b="0" lang="en-US" sz="1200" spc="-1" strike="noStrike">
                <a:solidFill>
                  <a:srgbClr val="000000"/>
                </a:solidFill>
                <a:latin typeface="Montserrat"/>
                <a:ea typeface="Montserrat"/>
              </a:rPr>
              <a:t>, а также причастиях и деепричастиях, образованных от 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91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tserrat"/>
                <a:ea typeface="Montserrat"/>
              </a:rPr>
              <a:t>неверно восстановленный инфинитив </a:t>
            </a:r>
            <a:r>
              <a:rPr b="0" i="1" lang="en-US" sz="1200" spc="-1" strike="noStrike">
                <a:solidFill>
                  <a:srgbClr val="000000"/>
                </a:solidFill>
                <a:latin typeface="Montserrat"/>
                <a:ea typeface="Montserrat"/>
              </a:rPr>
              <a:t>(молоть – мелЕТ, брезжить – брезжУЩий, движИмы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tserrat"/>
                <a:ea typeface="Montserrat"/>
              </a:rPr>
              <a:t>цЕлУЮ     мИлА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tserrat"/>
                <a:ea typeface="Montserrat"/>
              </a:rPr>
              <a:t>Выспишься (2 сп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ontserrat"/>
              </a:rPr>
              <a:t>«Опасные» слова: раскле..шь, колебл..шься, (кузнечик) стрекоч..т, (снега́) припорош..т; рыщ..щие (волки), хлещ..щие (струи), руш..щееся (здание); неприемл..мый, немину..мый; зачист..вший (напильником деталь); рассе..нный, сдерж..нное (обещание), пересуш..нное (белье), насто..нное (снадобье); обид..вшис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Google Shape;260;p38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Google Shape;261;p38"/>
          <p:cNvSpPr/>
          <p:nvPr/>
        </p:nvSpPr>
        <p:spPr>
          <a:xfrm>
            <a:off x="0" y="195264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Google Shape;262;p38" descr=""/>
          <p:cNvPicPr/>
          <p:nvPr/>
        </p:nvPicPr>
        <p:blipFill>
          <a:blip r:embed="rId1"/>
          <a:stretch/>
        </p:blipFill>
        <p:spPr>
          <a:xfrm>
            <a:off x="1414440" y="1328760"/>
            <a:ext cx="723600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Google Shape;268;p39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Google Shape;269;p39"/>
          <p:cNvSpPr/>
          <p:nvPr/>
        </p:nvSpPr>
        <p:spPr>
          <a:xfrm>
            <a:off x="0" y="232560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Google Shape;270;p39" descr=""/>
          <p:cNvPicPr/>
          <p:nvPr/>
        </p:nvPicPr>
        <p:blipFill>
          <a:blip r:embed="rId1"/>
          <a:stretch/>
        </p:blipFill>
        <p:spPr>
          <a:xfrm>
            <a:off x="1352520" y="274680"/>
            <a:ext cx="7394760" cy="3736800"/>
          </a:xfrm>
          <a:prstGeom prst="rect">
            <a:avLst/>
          </a:prstGeom>
          <a:ln w="0">
            <a:noFill/>
          </a:ln>
        </p:spPr>
      </p:pic>
      <p:sp>
        <p:nvSpPr>
          <p:cNvPr id="650" name="Прямоугольник 5"/>
          <p:cNvSpPr/>
          <p:nvPr/>
        </p:nvSpPr>
        <p:spPr>
          <a:xfrm>
            <a:off x="1295280" y="3355920"/>
            <a:ext cx="78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dc765"/>
                </a:solidFill>
                <a:uFillTx/>
                <a:latin typeface="Arial"/>
                <a:hlinkClick r:id="rId2"/>
              </a:rPr>
              <a:t>https://doc.fipi.ru/navigator-podgotovki/navigator-ege/MR_rus_yaz_ege_2024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Google Shape;284;p41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Google Shape;285;p41"/>
          <p:cNvSpPr/>
          <p:nvPr/>
        </p:nvSpPr>
        <p:spPr>
          <a:xfrm>
            <a:off x="0" y="229860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Google Shape;286;p41"/>
          <p:cNvSpPr/>
          <p:nvPr/>
        </p:nvSpPr>
        <p:spPr>
          <a:xfrm>
            <a:off x="1038240" y="0"/>
            <a:ext cx="76122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tserrat"/>
                <a:ea typeface="Montserrat"/>
              </a:rPr>
              <a:t>Рекоменд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55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tserrat"/>
                <a:ea typeface="Montserrat"/>
              </a:rPr>
              <a:t>внимательно читать формулировку задания – слова с Н или Н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55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tserrat"/>
                <a:ea typeface="Montserrat"/>
              </a:rPr>
              <a:t>повторить исклю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55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tserrat"/>
                <a:ea typeface="Montserrat"/>
              </a:rPr>
              <a:t>проверять наличие / отсутствие зависимых слов у отглагольных прил./ при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е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удё(1)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тер с Оки, редкие прохожие идут, путаясь в полах шуб и шерстя(2)ых пальто, а дóма тепло, рассыпается серебря(3)ым колокольчиком канарейка в клетке, на кухне ждёт чайник из костя(4)ого фарфора, изумрудно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ыжове(5)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аренье положе(6)о в хрустальную розетку, и на вяза(7)ой крючком кипенно-белой скатерти сияет золочё(8)ая ложе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Google Shape;300;p43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Google Shape;301;p43"/>
          <p:cNvSpPr/>
          <p:nvPr/>
        </p:nvSpPr>
        <p:spPr>
          <a:xfrm>
            <a:off x="0" y="211284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Google Shape;302;p43"/>
          <p:cNvSpPr/>
          <p:nvPr/>
        </p:nvSpPr>
        <p:spPr>
          <a:xfrm>
            <a:off x="1447920" y="271440"/>
            <a:ext cx="7202520" cy="4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Практика показывает, что ребята часто допускают ошибку в постановке знаков препинания в предложениях, требующих различения однородных и неоднородных определений, выраженных причастным оборотом и одиночным прилагательным (причастием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SzPct val="7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Снежные сугробы покрылись тонкой, едва видимой коркой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7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Анна взглянула на Вронского улыбнулась ему веселой, обещающей радость улыбкой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7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Порыжевшая, выжженная солнцем трава выглядела жалк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7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Медленно падает на землю оторвавшийся от ветки кленовый лис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7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Montserrat"/>
                <a:ea typeface="Montserrat"/>
              </a:rPr>
              <a:t>Особое внимание предложения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7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7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 двора раздались громкие встревоженные голоса и сразу же послышался детский пла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7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7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собирали в лесу не только грибы, но и бруснику и голуби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Google Shape;316;p45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Google Shape;317;p45"/>
          <p:cNvSpPr/>
          <p:nvPr/>
        </p:nvSpPr>
        <p:spPr>
          <a:xfrm>
            <a:off x="0" y="218448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Google Shape;318;p45"/>
          <p:cNvSpPr/>
          <p:nvPr/>
        </p:nvSpPr>
        <p:spPr>
          <a:xfrm>
            <a:off x="1447920" y="271440"/>
            <a:ext cx="7202520" cy="34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Отрабатываем с ребя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61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различение омонимичных конструкций со словами </a:t>
            </a:r>
            <a:r>
              <a:rPr b="0" i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«может быть»</a:t>
            </a: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«возможно» </a:t>
            </a: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и др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1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различение функций слова </a:t>
            </a:r>
            <a:r>
              <a:rPr b="0" i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«однако»</a:t>
            </a: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1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идентификацию слов и конструкций как вводных: </a:t>
            </a:r>
            <a:r>
              <a:rPr b="0" i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«по словам Е. Трубецкой»</a:t>
            </a: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«к моему удивлению»</a:t>
            </a: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«следовательно»</a:t>
            </a: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«значит» </a:t>
            </a: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и др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1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ИЗУЧАЕМ СЛОВА, КОТОРЫЕ НЕ ОТНОСЯТСЯ К ВВОД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1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!ЯК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Google Shape;90;p18"/>
          <p:cNvSpPr/>
          <p:nvPr/>
        </p:nvSpPr>
        <p:spPr>
          <a:xfrm>
            <a:off x="25236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Google Shape;91;p18"/>
          <p:cNvSpPr/>
          <p:nvPr/>
        </p:nvSpPr>
        <p:spPr>
          <a:xfrm>
            <a:off x="0" y="2228760"/>
            <a:ext cx="98568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2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Google Shape;92;p18" descr=""/>
          <p:cNvPicPr/>
          <p:nvPr/>
        </p:nvPicPr>
        <p:blipFill>
          <a:blip r:embed="rId1"/>
          <a:stretch/>
        </p:blipFill>
        <p:spPr>
          <a:xfrm>
            <a:off x="1384200" y="274680"/>
            <a:ext cx="73328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Google Shape;324;p46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Google Shape;325;p46"/>
          <p:cNvSpPr/>
          <p:nvPr/>
        </p:nvSpPr>
        <p:spPr>
          <a:xfrm>
            <a:off x="0" y="215568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Google Shape;326;p46"/>
          <p:cNvSpPr/>
          <p:nvPr/>
        </p:nvSpPr>
        <p:spPr>
          <a:xfrm>
            <a:off x="1163520" y="372960"/>
            <a:ext cx="7470720" cy="55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Повторя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61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сложноподчинённые </a:t>
            </a:r>
            <a:r>
              <a:rPr b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предложения с несколькими придаточными</a:t>
            </a: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, связанными последовательной, параллельной и  однородной связью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ontserrat"/>
              </a:rPr>
              <a:t>Только вдруг почему-то всем представилось, как приходил Бозин домой, как садился за стол, ел суп или пил чай и на него, закутавшись в мягкий пух облака, своими чистыми и добрыми глазами смотрел ангел, словно сыночек, дождавшийся своего от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ontserrat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ontserrat"/>
              </a:rPr>
              <a:t>!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а поняла со всей ясностью (1) что случилось именно то (2) о чём утром говорило предчувствие (3) и (4) что она покидает особняк и прежнюю свою жизнь навсег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55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55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Google Shape;332;p47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Google Shape;333;p47"/>
          <p:cNvSpPr/>
          <p:nvPr/>
        </p:nvSpPr>
        <p:spPr>
          <a:xfrm>
            <a:off x="0" y="209556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Google Shape;334;p47"/>
          <p:cNvSpPr/>
          <p:nvPr/>
        </p:nvSpPr>
        <p:spPr>
          <a:xfrm>
            <a:off x="1447920" y="271440"/>
            <a:ext cx="72025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tserrat"/>
                <a:ea typeface="Montserrat"/>
              </a:rPr>
              <a:t>Осложняющим фактором при выполнении задания 20 традиционно является </a:t>
            </a:r>
            <a:r>
              <a:rPr b="1" lang="en-US" sz="2000" spc="-1" strike="noStrike">
                <a:solidFill>
                  <a:srgbClr val="000000"/>
                </a:solidFill>
                <a:latin typeface="Montserrat"/>
                <a:ea typeface="Montserrat"/>
              </a:rPr>
              <a:t>стык союзов (союзных средств)</a:t>
            </a:r>
            <a:r>
              <a:rPr b="0" lang="en-US" sz="2000" spc="-1" strike="noStrike">
                <a:solidFill>
                  <a:srgbClr val="000000"/>
                </a:solidFill>
                <a:latin typeface="Montserrat"/>
                <a:ea typeface="Montserrat"/>
              </a:rPr>
              <a:t>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50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Montserrat"/>
                <a:ea typeface="Montserrat"/>
              </a:rPr>
              <a:t>Ребенок имеет право быть тем (1) кто он есть </a:t>
            </a:r>
            <a:r>
              <a:rPr b="1" i="1" lang="en-US" sz="2000" spc="-1" strike="noStrike">
                <a:solidFill>
                  <a:srgbClr val="000000"/>
                </a:solidFill>
                <a:latin typeface="Montserrat"/>
                <a:ea typeface="Montserrat"/>
              </a:rPr>
              <a:t>(2) и (3) если </a:t>
            </a:r>
            <a:r>
              <a:rPr b="0" i="1" lang="en-US" sz="2000" spc="-1" strike="noStrike">
                <a:solidFill>
                  <a:srgbClr val="000000"/>
                </a:solidFill>
                <a:latin typeface="Montserrat"/>
                <a:ea typeface="Montserrat"/>
              </a:rPr>
              <a:t>мы хотим быть честными (4) то не надо ждать (5) чтобы он стал совершенным человеком (По Я. Корчаку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50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50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tserrat"/>
                <a:ea typeface="Montserrat"/>
              </a:rPr>
              <a:t>Много работаем с текс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50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Google Shape;340;p48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Google Shape;341;p48"/>
          <p:cNvSpPr/>
          <p:nvPr/>
        </p:nvSpPr>
        <p:spPr>
          <a:xfrm>
            <a:off x="0" y="185580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Google Shape;342;p48"/>
          <p:cNvSpPr/>
          <p:nvPr/>
        </p:nvSpPr>
        <p:spPr>
          <a:xfrm>
            <a:off x="1447920" y="271440"/>
            <a:ext cx="720252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Труд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6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неумение отличить один случай постановки знака препинания от друг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6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смешение случаев обособления </a:t>
            </a:r>
            <a:r>
              <a:rPr b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приложения</a:t>
            </a: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 знаком тире и постановки тире между подлежащим и сказуем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6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смешение случаев постановки двоеточия при однородных членах с обобщающим словом и постановки двоеточия в БС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Работаем над грамматической основой предложения, ищем ПО, ДО, О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Google Shape;380;p53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Google Shape;381;p53"/>
          <p:cNvSpPr/>
          <p:nvPr/>
        </p:nvSpPr>
        <p:spPr>
          <a:xfrm>
            <a:off x="0" y="269892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Google Shape;382;p53"/>
          <p:cNvSpPr/>
          <p:nvPr/>
        </p:nvSpPr>
        <p:spPr>
          <a:xfrm>
            <a:off x="1317600" y="169920"/>
            <a:ext cx="7202520" cy="43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Труд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8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лексический повтор + анализ его фун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8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антитеза + анализ её фун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8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выбор соответствующих терминов, называющих перенос признаков по смежности (метонимия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8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усиление признака в исходном макротексте (градация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8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расчленение (дробление) единой фразы на отдельные части (парцелляция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8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Обращаем</a:t>
            </a: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 внимание на выделение курси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Учим не путать анафору и многосоюз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РАБОТАЕМ СО СПИСКОМ ИВС НА САЙТЕ РЕШУ.ЕГ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Google Shape;372;p52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Google Shape;373;p52"/>
          <p:cNvSpPr/>
          <p:nvPr/>
        </p:nvSpPr>
        <p:spPr>
          <a:xfrm>
            <a:off x="0" y="110952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Google Shape;374;p52"/>
          <p:cNvSpPr/>
          <p:nvPr/>
        </p:nvSpPr>
        <p:spPr>
          <a:xfrm>
            <a:off x="1447920" y="271440"/>
            <a:ext cx="7202520" cy="16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Чаще всего выпускники испытывают трудности при определении фразеологизмов как раз в тех случаях, когда фразеологический оборот является </a:t>
            </a:r>
            <a:r>
              <a:rPr b="1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привычным для повседневной разговорной ре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Прямоугольник 5"/>
          <p:cNvSpPr/>
          <p:nvPr/>
        </p:nvSpPr>
        <p:spPr>
          <a:xfrm>
            <a:off x="1127160" y="2209680"/>
            <a:ext cx="78836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(1)Кружила январская метелица, скрипели мёрзлые тополя в переулке, верховой ветер гремел железом,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то и дел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рывал снежную пыль с карнизов, нёс её вдоль побелённых заборов, над свежими сугробами, а оно, это единственное в ночи окно, светилось зелёным уютным пятном и, всегда одинаково яркое, тёплое, занавешенное, притягивало к себе, вызывало приятное ощущение неразгаданной тайны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(25)Нет мудрости в том, что кто-то, завидев прекрасное, бросается к нему, присоединяет к себе и делает своей собственностью: эта собственность неминуемо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рано или поздн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делает его своим рабом. (26)Настоящая мудрость приходит к человеку, когда, завидев прекрасное, он не бросается к нему, а собирает друзей и показывает. (27)Тогда прекрасное само приходит к нему, как к хозяину своему и другу, и свободно садится со всеми за стол.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7" name="TextBox 3"/>
          <p:cNvSpPr/>
          <p:nvPr/>
        </p:nvSpPr>
        <p:spPr>
          <a:xfrm>
            <a:off x="1278000" y="1509840"/>
            <a:ext cx="75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Google Shape;106;p20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Google Shape;107;p20"/>
          <p:cNvSpPr/>
          <p:nvPr/>
        </p:nvSpPr>
        <p:spPr>
          <a:xfrm>
            <a:off x="0" y="2441520"/>
            <a:ext cx="1050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Google Shape;108;p20"/>
          <p:cNvSpPr/>
          <p:nvPr/>
        </p:nvSpPr>
        <p:spPr>
          <a:xfrm>
            <a:off x="1216080" y="222120"/>
            <a:ext cx="7564320" cy="32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ontserrat"/>
              </a:rPr>
              <a:t>Повторяем и отрабатыв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4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ontserrat"/>
              </a:rPr>
              <a:t>определени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ontserrat"/>
              </a:rPr>
              <a:t>стилевой принадлеж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ontserrat"/>
              </a:rPr>
              <a:t> тек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4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ontserrat"/>
              </a:rPr>
              <a:t>незнание лингвистическо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ontserrat"/>
              </a:rPr>
              <a:t>терминологии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ontserrat"/>
              </a:rPr>
              <a:t> (отглагольная лексика, абстрактная лексика, канцеляризм, термин, книжная лексика, разговорная лексика, имя существительное в родительном падеже, неполное предложение, односоставное предло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Google Shape;114;p21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Google Shape;115;p21"/>
          <p:cNvSpPr/>
          <p:nvPr/>
        </p:nvSpPr>
        <p:spPr>
          <a:xfrm>
            <a:off x="0" y="2095560"/>
            <a:ext cx="1050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Google Shape;116;p21"/>
          <p:cNvSpPr/>
          <p:nvPr/>
        </p:nvSpPr>
        <p:spPr>
          <a:xfrm>
            <a:off x="1154160" y="133200"/>
            <a:ext cx="7496280" cy="44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Системно провожу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Montserrat"/>
                <a:ea typeface="Montserrat"/>
              </a:rPr>
              <a:t>орфоэпическую разминку, причем слова должны именно звучать, а не быть просто написанными или напечатанны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❗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Montserrat"/>
                <a:ea typeface="Montserrat"/>
              </a:rPr>
              <a:t>Систему упражнений также важно строить не на решении однотипных</a:t>
            </a: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 (по типу ЕГЭ) задании, 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1)  на готовом материале, например, разучивание слов с готовыми ударениями и распределение их на группы по какому-либо признаку (ударение на первом слоге, на втором и т.п.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2)  на усложненном материале, например расставить ударения и определить, по какому принципу сгруппированы слова, и распределить слова на группы в зависимости от удар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3)  в нестандартных ситуациях, например составление предложений и текста, включающих слова, которые вызывают трудности в произношении, и составление тестов по теме</a:t>
            </a: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	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Picture background"/>
          <p:cNvPicPr/>
          <p:nvPr/>
        </p:nvPicPr>
        <p:blipFill>
          <a:blip r:embed="rId1"/>
          <a:stretch/>
        </p:blipFill>
        <p:spPr>
          <a:xfrm>
            <a:off x="1031760" y="0"/>
            <a:ext cx="73137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Google Shape;130;p23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Google Shape;131;p23"/>
          <p:cNvSpPr/>
          <p:nvPr/>
        </p:nvSpPr>
        <p:spPr>
          <a:xfrm>
            <a:off x="0" y="2538360"/>
            <a:ext cx="1050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Google Shape;132;p23"/>
          <p:cNvSpPr/>
          <p:nvPr/>
        </p:nvSpPr>
        <p:spPr>
          <a:xfrm>
            <a:off x="1447920" y="271440"/>
            <a:ext cx="720252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Трудные паронимические па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61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величина — вели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SzPct val="61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ограничить — отгранич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SzPct val="61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раздражительность — разд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Отработка ум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ключаем задания, связанные с паронимией, в комплексное повторение морфологии, лексики, орфографии — навык различать оттенки паронимов и грамотно употреблять их в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Ориентируемся на сборник паронимов  по материалам ФИП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Google Shape;138;p24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Google Shape;139;p24"/>
          <p:cNvSpPr/>
          <p:nvPr/>
        </p:nvSpPr>
        <p:spPr>
          <a:xfrm>
            <a:off x="0" y="2228760"/>
            <a:ext cx="1050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Google Shape;140;p24"/>
          <p:cNvSpPr/>
          <p:nvPr/>
        </p:nvSpPr>
        <p:spPr>
          <a:xfrm>
            <a:off x="1447920" y="271440"/>
            <a:ext cx="720252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Трудный плеоназм (исключить лишнее слово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перспективы будущ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«Поделись праздником со всеми! -  таков ведущий лейтмотив фотовыставки «Россия – Родина мо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Трудная замена слова (лексическая сочетаемость, заменить неверно употреблённое слово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SzPct val="6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«Два месяца назад я приехал в родной город, чтобы осуществить редакционное задание, и внезапно принял решение остаться на родине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Google Shape;149;p25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Google Shape;150;p25"/>
          <p:cNvSpPr/>
          <p:nvPr/>
        </p:nvSpPr>
        <p:spPr>
          <a:xfrm>
            <a:off x="0" y="2325600"/>
            <a:ext cx="1050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Google Shape;151;p25"/>
          <p:cNvSpPr/>
          <p:nvPr/>
        </p:nvSpPr>
        <p:spPr>
          <a:xfrm>
            <a:off x="1447920" y="271440"/>
            <a:ext cx="72025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tserrat"/>
                <a:ea typeface="Montserrat"/>
              </a:rPr>
              <a:t>Особое внимание следует уделить верному </a:t>
            </a:r>
            <a:r>
              <a:rPr b="1" lang="en-US" sz="1200" spc="-1" strike="noStrike">
                <a:solidFill>
                  <a:srgbClr val="000000"/>
                </a:solidFill>
                <a:latin typeface="Montserrat"/>
                <a:ea typeface="Montserrat"/>
              </a:rPr>
              <a:t>оформлению исправленного слова</a:t>
            </a:r>
            <a:r>
              <a:rPr b="0" lang="en-US" sz="1200" spc="-1" strike="noStrike">
                <a:solidFill>
                  <a:srgbClr val="000000"/>
                </a:solidFill>
                <a:latin typeface="Montserrat"/>
                <a:ea typeface="Montserrat"/>
              </a:rPr>
              <a:t> в бланке ответов: запись слова с учётом всех норм современного русского языка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Montserrat"/>
                <a:ea typeface="Montserrat"/>
              </a:rPr>
              <a:t>в том числе и орфографическ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2" descr="Picture background"/>
          <p:cNvPicPr/>
          <p:nvPr/>
        </p:nvPicPr>
        <p:blipFill>
          <a:blip r:embed="rId1"/>
          <a:stretch/>
        </p:blipFill>
        <p:spPr>
          <a:xfrm>
            <a:off x="1492200" y="1069920"/>
            <a:ext cx="5699160" cy="40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Google Shape;180;p28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Google Shape;181;p28"/>
          <p:cNvSpPr/>
          <p:nvPr/>
        </p:nvSpPr>
        <p:spPr>
          <a:xfrm>
            <a:off x="0" y="2725560"/>
            <a:ext cx="1050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Google Shape;182;p28"/>
          <p:cNvSpPr/>
          <p:nvPr/>
        </p:nvSpPr>
        <p:spPr>
          <a:xfrm>
            <a:off x="1198440" y="195120"/>
            <a:ext cx="7785360" cy="29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Трудности с идентификацией вида грамматической ошиб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Отработка умени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50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структурируем предложения, выделяя главные чл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50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графически выделяем обороты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50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учим видеть </a:t>
            </a:r>
            <a:r>
              <a:rPr b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слова-маркёры</a:t>
            </a: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 (несогласованное приложение, обороты, однородные члены) и выделять 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50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медленное смысловое чтение каждого предложения в правой колонке таблицы и каждого тезиса в ле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УМЦ</cp:lastModifiedBy>
  <dcterms:modified xsi:type="dcterms:W3CDTF">2025-04-09T06:30:53Z</dcterms:modified>
  <cp:revision>4</cp:revision>
  <dc:subject/>
  <dc:title>Слайд 1</dc:title>
</cp:coreProperties>
</file>